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A1DC31-8A5D-4641-8F41-58A2D0E66F3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D05DCD-E4BA-4792-9B84-8D67A0316AB6}" type="slidenum">
              <a:rPr b="0" lang="it-IT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689E88-E54E-43FD-80D5-1ED0C4EA7279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585C89-061E-41EF-9893-5EEDB35F5D68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08E448-8D6E-400F-BA72-70F9FF375630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2A9163-FE5E-4AAD-B955-D917858B8B7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6D3E4F-AD7D-4FC9-9762-79C4ADF4F23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F4D390-EA0A-4B19-A15A-928DD338E78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DB8555-3EE2-4E6A-9CA3-794FD704314A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E9E-7DF3-45B6-A27C-92E53C22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CB2-D341-4619-881A-521C734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711-DF3B-4CDC-9AC1-AFD5EFE5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918-5E71-4B76-816F-1A651AD6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512-4736-44A9-B955-96CDED1E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B5D-97F7-427F-8FD3-F38F60A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CA18-862A-4288-BE14-56DF2BE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B74-80C1-44A0-B0E3-B4AFCF9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626-E06C-40BF-9203-09BF9B1C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411D-0897-4C5F-9297-E5246A6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24F-F209-4F90-B807-519BDA9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DF3-FA80-4C31-837E-879AF4C7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70EB-E6AD-461D-9EBB-A5CDB61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6A6-C2D1-4E48-B069-76C4021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D9CD-AD83-4BE2-A3DA-7F9F4757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B16F-97FC-4987-93C0-FB3096E6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CDF8-C7EA-443B-8ACD-0BC8826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174-E960-41EF-9CF3-E8C60E4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836-1BB9-4041-BA25-F17854E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396-EA74-4ACB-9073-B2C39887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99F-454C-4D21-90EB-F7E2E95C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408-0FB6-4098-9635-2AE7F3B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56C-5A52-4E0A-B7EB-2B94650A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45D-CF82-4938-8F15-CA55BDA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967-2C21-4055-8A5A-53AFF2DD4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51A-20C2-4C30-949A-58644901BBA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4250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Lucida Sans"/>
              </a:rPr>
              <a:t>Another textDB: Label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06560" y="2565360"/>
            <a:ext cx="7127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9640" y="467676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251784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216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AutoShape 37"/>
          <p:cNvSpPr/>
          <p:nvPr/>
        </p:nvSpPr>
        <p:spPr>
          <a:xfrm>
            <a:off x="0" y="5878440"/>
            <a:ext cx="8893080" cy="979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o exist data structures that solve this problem in O(1) query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n log(m/n) + o(m) bits of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ttangolo 1"/>
          <p:cNvSpPr/>
          <p:nvPr/>
        </p:nvSpPr>
        <p:spPr>
          <a:xfrm>
            <a:off x="530280" y="17017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8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m+o(m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7564320" y="436680"/>
            <a:ext cx="1248120" cy="703800"/>
            <a:chOff x="7564320" y="436680"/>
            <a:chExt cx="1248120" cy="703800"/>
          </a:xfrm>
        </p:grpSpPr>
        <p:sp>
          <p:nvSpPr>
            <p:cNvPr id="222" name="Text Box 4"/>
            <p:cNvSpPr/>
            <p:nvPr/>
          </p:nvSpPr>
          <p:spPr>
            <a:xfrm>
              <a:off x="7620840" y="4366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7564320" y="4366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4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48552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134040" y="2924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ce is |B|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m + O(m loglog m / log 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9" name="Group 42"/>
          <p:cNvGrpSpPr/>
          <p:nvPr/>
        </p:nvGrpSpPr>
        <p:grpSpPr>
          <a:xfrm>
            <a:off x="5397840" y="3119400"/>
            <a:ext cx="3332520" cy="1289160"/>
            <a:chOff x="5397840" y="3119400"/>
            <a:chExt cx="3332520" cy="1289160"/>
          </a:xfrm>
        </p:grpSpPr>
        <p:sp>
          <p:nvSpPr>
            <p:cNvPr id="240" name="Text Box 43"/>
            <p:cNvSpPr/>
            <p:nvPr/>
          </p:nvSpPr>
          <p:spPr>
            <a:xfrm>
              <a:off x="7229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44"/>
            <p:cNvSpPr/>
            <p:nvPr/>
          </p:nvSpPr>
          <p:spPr>
            <a:xfrm>
              <a:off x="7809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45"/>
            <p:cNvSpPr/>
            <p:nvPr/>
          </p:nvSpPr>
          <p:spPr>
            <a:xfrm>
              <a:off x="8331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4" idx="2"/>
            </p:cNvCxnSpPr>
            <p:nvPr/>
          </p:nvCxnSpPr>
          <p:spPr>
            <a:xfrm flipH="1" rot="16200000">
              <a:off x="5995800" y="2909520"/>
              <a:ext cx="901080" cy="2097360"/>
            </a:xfrm>
            <a:prstGeom prst="curvedConnector2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</p:cxnSp>
      </p:grpSp>
      <p:grpSp>
        <p:nvGrpSpPr>
          <p:cNvPr id="245" name="Group 50"/>
          <p:cNvGrpSpPr/>
          <p:nvPr/>
        </p:nvGrpSpPr>
        <p:grpSpPr>
          <a:xfrm>
            <a:off x="2968200" y="3068640"/>
            <a:ext cx="3261240" cy="1727280"/>
            <a:chOff x="2968200" y="3068640"/>
            <a:chExt cx="3261240" cy="1727280"/>
          </a:xfrm>
        </p:grpSpPr>
        <p:sp>
          <p:nvSpPr>
            <p:cNvPr id="246" name="Text Box 51"/>
            <p:cNvSpPr/>
            <p:nvPr/>
          </p:nvSpPr>
          <p:spPr>
            <a:xfrm>
              <a:off x="4083840" y="3355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7" name="Group 52"/>
            <p:cNvGrpSpPr/>
            <p:nvPr/>
          </p:nvGrpSpPr>
          <p:grpSpPr>
            <a:xfrm>
              <a:off x="2968200" y="3068640"/>
              <a:ext cx="3261240" cy="1727280"/>
              <a:chOff x="2968200" y="3068640"/>
              <a:chExt cx="3261240" cy="1727280"/>
            </a:xfrm>
          </p:grpSpPr>
          <p:sp>
            <p:nvSpPr>
              <p:cNvPr id="248" name="Rectangle 53"/>
              <p:cNvSpPr/>
              <p:nvPr/>
            </p:nvSpPr>
            <p:spPr>
              <a:xfrm>
                <a:off x="3779640" y="3337200"/>
                <a:ext cx="64764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Rectangle 54"/>
              <p:cNvSpPr/>
              <p:nvPr/>
            </p:nvSpPr>
            <p:spPr>
              <a:xfrm>
                <a:off x="4505400" y="3337200"/>
                <a:ext cx="51264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Rectangle 55"/>
              <p:cNvSpPr/>
              <p:nvPr/>
            </p:nvSpPr>
            <p:spPr>
              <a:xfrm>
                <a:off x="5041800" y="3335400"/>
                <a:ext cx="59364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Rectangle 56"/>
              <p:cNvSpPr/>
              <p:nvPr/>
            </p:nvSpPr>
            <p:spPr>
              <a:xfrm>
                <a:off x="5724360" y="3337200"/>
                <a:ext cx="50508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57"/>
              <p:cNvSpPr/>
              <p:nvPr/>
            </p:nvSpPr>
            <p:spPr>
              <a:xfrm flipH="1" flipV="1">
                <a:off x="4427280" y="3476880"/>
                <a:ext cx="21600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Text Box 58"/>
              <p:cNvSpPr/>
              <p:nvPr/>
            </p:nvSpPr>
            <p:spPr>
              <a:xfrm>
                <a:off x="2968200" y="400860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Text Box 59"/>
              <p:cNvSpPr/>
              <p:nvPr/>
            </p:nvSpPr>
            <p:spPr>
              <a:xfrm>
                <a:off x="4453920" y="3068640"/>
                <a:ext cx="167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 7         9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54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6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257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261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030320" y="2395440"/>
            <a:ext cx="25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</a:t>
            </a:r>
            <a:r>
              <a:rPr b="0" lang="it-IT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 k consecutive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395280" y="2995560"/>
            <a:ext cx="81374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ore explicitly the position of the k 1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≤ r ≤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 recurse...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 One level is enough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... still need a table of size o(m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Setting k ≈ poly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ce is </a:t>
            </a: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m + o(m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index&amp;compres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L  takes 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H takes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278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0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281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2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0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1" name="Group 8" descr=""/>
          <p:cNvPicPr/>
          <p:nvPr/>
        </p:nvPicPr>
        <p:blipFill>
          <a:blip r:embed="rId5"/>
          <a:stretch/>
        </p:blipFill>
        <p:spPr>
          <a:xfrm>
            <a:off x="1122480" y="5870520"/>
            <a:ext cx="8021520" cy="1017720"/>
          </a:xfrm>
          <a:prstGeom prst="rect">
            <a:avLst/>
          </a:prstGeom>
          <a:ln w="0">
            <a:noFill/>
          </a:ln>
        </p:spPr>
      </p:pic>
      <p:sp>
        <p:nvSpPr>
          <p:cNvPr id="292" name="CasellaDiTesto 4"/>
          <p:cNvSpPr/>
          <p:nvPr/>
        </p:nvSpPr>
        <p:spPr>
          <a:xfrm>
            <a:off x="513000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m/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s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20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4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access to postings 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other data types</a:t>
            </a:r>
            <a:br>
              <a:rPr sz="3600"/>
            </a:br>
            <a:r>
              <a:rPr b="0" lang="en-US" sz="2800" spc="-1" strike="noStrike">
                <a:solidFill>
                  <a:srgbClr val="20ac6f"/>
                </a:solidFill>
                <a:latin typeface="Lucida Sans"/>
              </a:rPr>
              <a:t>(e.g. encoding skips?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813600" y="1863720"/>
            <a:ext cx="7751880" cy="479520"/>
            <a:chOff x="813600" y="1863720"/>
            <a:chExt cx="7751880" cy="479520"/>
          </a:xfrm>
        </p:grpSpPr>
        <p:sp>
          <p:nvSpPr>
            <p:cNvPr id="163" name="Rectangle 21"/>
            <p:cNvSpPr/>
            <p:nvPr/>
          </p:nvSpPr>
          <p:spPr>
            <a:xfrm>
              <a:off x="1206360" y="1911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4" name="Group 22"/>
            <p:cNvGrpSpPr/>
            <p:nvPr/>
          </p:nvGrpSpPr>
          <p:grpSpPr>
            <a:xfrm>
              <a:off x="813600" y="1863720"/>
              <a:ext cx="7728840" cy="459720"/>
              <a:chOff x="813600" y="1863720"/>
              <a:chExt cx="7728840" cy="459720"/>
            </a:xfrm>
          </p:grpSpPr>
          <p:sp>
            <p:nvSpPr>
              <p:cNvPr id="165" name="Text Box 23"/>
              <p:cNvSpPr/>
              <p:nvPr/>
            </p:nvSpPr>
            <p:spPr>
              <a:xfrm>
                <a:off x="1316160" y="1924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24"/>
              <p:cNvSpPr/>
              <p:nvPr/>
            </p:nvSpPr>
            <p:spPr>
              <a:xfrm>
                <a:off x="813600" y="186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7" name="Text Box 50"/>
          <p:cNvSpPr/>
          <p:nvPr/>
        </p:nvSpPr>
        <p:spPr>
          <a:xfrm>
            <a:off x="539640" y="2583000"/>
            <a:ext cx="8064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log m) bits per string, (n log m) bits overall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buClr>
                <a:srgbClr val="000000"/>
              </a:buClr>
              <a:buSzPct val="55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could drop the separating NU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ndependent of string-length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effective for few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t is bad for medium/large sets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AutoShape 51"/>
          <p:cNvSpPr/>
          <p:nvPr/>
        </p:nvSpPr>
        <p:spPr>
          <a:xfrm>
            <a:off x="5796000" y="3645000"/>
            <a:ext cx="2954160" cy="576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pace = 32 * 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766080" y="3141720"/>
            <a:ext cx="6974280" cy="479520"/>
            <a:chOff x="766080" y="3141720"/>
            <a:chExt cx="6974280" cy="479520"/>
          </a:xfrm>
        </p:grpSpPr>
        <p:sp>
          <p:nvSpPr>
            <p:cNvPr id="171" name="Rectangle 4"/>
            <p:cNvSpPr/>
            <p:nvPr/>
          </p:nvSpPr>
          <p:spPr>
            <a:xfrm>
              <a:off x="1158840" y="3189600"/>
              <a:ext cx="65815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766080" y="3141720"/>
              <a:ext cx="6158520" cy="459720"/>
              <a:chOff x="766080" y="3141720"/>
              <a:chExt cx="6158520" cy="459720"/>
            </a:xfrm>
          </p:grpSpPr>
          <p:sp>
            <p:nvSpPr>
              <p:cNvPr id="173" name="Text Box 6"/>
              <p:cNvSpPr/>
              <p:nvPr/>
            </p:nvSpPr>
            <p:spPr>
              <a:xfrm>
                <a:off x="910080" y="3202200"/>
                <a:ext cx="601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4" name="Text Box 7"/>
              <p:cNvSpPr/>
              <p:nvPr/>
            </p:nvSpPr>
            <p:spPr>
              <a:xfrm>
                <a:off x="766080" y="314172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75" name="Group 9"/>
          <p:cNvGrpSpPr/>
          <p:nvPr/>
        </p:nvGrpSpPr>
        <p:grpSpPr>
          <a:xfrm>
            <a:off x="813600" y="1917720"/>
            <a:ext cx="7751880" cy="479520"/>
            <a:chOff x="813600" y="1917720"/>
            <a:chExt cx="7751880" cy="479520"/>
          </a:xfrm>
        </p:grpSpPr>
        <p:sp>
          <p:nvSpPr>
            <p:cNvPr id="176" name="Rectangle 10"/>
            <p:cNvSpPr/>
            <p:nvPr/>
          </p:nvSpPr>
          <p:spPr>
            <a:xfrm>
              <a:off x="1206360" y="1965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77" name="Group 11"/>
            <p:cNvGrpSpPr/>
            <p:nvPr/>
          </p:nvGrpSpPr>
          <p:grpSpPr>
            <a:xfrm>
              <a:off x="813600" y="1917720"/>
              <a:ext cx="7728840" cy="459720"/>
              <a:chOff x="813600" y="1917720"/>
              <a:chExt cx="7728840" cy="459720"/>
            </a:xfrm>
          </p:grpSpPr>
          <p:sp>
            <p:nvSpPr>
              <p:cNvPr id="178" name="Text Box 12"/>
              <p:cNvSpPr/>
              <p:nvPr/>
            </p:nvSpPr>
            <p:spPr>
              <a:xfrm>
                <a:off x="1316160" y="1978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Text Box 13"/>
              <p:cNvSpPr/>
              <p:nvPr/>
            </p:nvSpPr>
            <p:spPr>
              <a:xfrm>
                <a:off x="813600" y="191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0" name="Group 14"/>
          <p:cNvGrpSpPr/>
          <p:nvPr/>
        </p:nvGrpSpPr>
        <p:grpSpPr>
          <a:xfrm>
            <a:off x="192600" y="3862440"/>
            <a:ext cx="7135200" cy="479520"/>
            <a:chOff x="192600" y="3862440"/>
            <a:chExt cx="7135200" cy="479520"/>
          </a:xfrm>
        </p:grpSpPr>
        <p:sp>
          <p:nvSpPr>
            <p:cNvPr id="181" name="Rectangle 15"/>
            <p:cNvSpPr/>
            <p:nvPr/>
          </p:nvSpPr>
          <p:spPr>
            <a:xfrm>
              <a:off x="1135080" y="391032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2" name="Group 16"/>
            <p:cNvGrpSpPr/>
            <p:nvPr/>
          </p:nvGrpSpPr>
          <p:grpSpPr>
            <a:xfrm>
              <a:off x="192600" y="3862440"/>
              <a:ext cx="4202280" cy="459720"/>
              <a:chOff x="192600" y="3862440"/>
              <a:chExt cx="4202280" cy="459720"/>
            </a:xfrm>
          </p:grpSpPr>
          <p:sp>
            <p:nvSpPr>
              <p:cNvPr id="183" name="Text Box 17"/>
              <p:cNvSpPr/>
              <p:nvPr/>
            </p:nvSpPr>
            <p:spPr>
              <a:xfrm>
                <a:off x="1013760" y="392292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#2#5#6#20#31#3#3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8"/>
              <p:cNvSpPr/>
              <p:nvPr/>
            </p:nvSpPr>
            <p:spPr>
              <a:xfrm>
                <a:off x="192600" y="386244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elt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5" name="Group 19"/>
          <p:cNvGrpSpPr/>
          <p:nvPr/>
        </p:nvGrpSpPr>
        <p:grpSpPr>
          <a:xfrm>
            <a:off x="778680" y="4510080"/>
            <a:ext cx="6549120" cy="479520"/>
            <a:chOff x="778680" y="4510080"/>
            <a:chExt cx="6549120" cy="479520"/>
          </a:xfrm>
        </p:grpSpPr>
        <p:sp>
          <p:nvSpPr>
            <p:cNvPr id="186" name="Rectangle 20"/>
            <p:cNvSpPr/>
            <p:nvPr/>
          </p:nvSpPr>
          <p:spPr>
            <a:xfrm>
              <a:off x="1135080" y="455796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7" name="Group 21"/>
            <p:cNvGrpSpPr/>
            <p:nvPr/>
          </p:nvGrpSpPr>
          <p:grpSpPr>
            <a:xfrm>
              <a:off x="778680" y="4510080"/>
              <a:ext cx="4193280" cy="459720"/>
              <a:chOff x="778680" y="4510080"/>
              <a:chExt cx="4193280" cy="459720"/>
            </a:xfrm>
          </p:grpSpPr>
          <p:sp>
            <p:nvSpPr>
              <p:cNvPr id="188" name="Text Box 22"/>
              <p:cNvSpPr/>
              <p:nvPr/>
            </p:nvSpPr>
            <p:spPr>
              <a:xfrm>
                <a:off x="858960" y="457056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1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778680" y="4510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0" name="Group 24"/>
          <p:cNvGrpSpPr/>
          <p:nvPr/>
        </p:nvGrpSpPr>
        <p:grpSpPr>
          <a:xfrm>
            <a:off x="646920" y="2637000"/>
            <a:ext cx="6680880" cy="478800"/>
            <a:chOff x="646920" y="2637000"/>
            <a:chExt cx="6680880" cy="478800"/>
          </a:xfrm>
        </p:grpSpPr>
        <p:sp>
          <p:nvSpPr>
            <p:cNvPr id="191" name="Rectangle 25"/>
            <p:cNvSpPr/>
            <p:nvPr/>
          </p:nvSpPr>
          <p:spPr>
            <a:xfrm>
              <a:off x="1135080" y="2684520"/>
              <a:ext cx="61927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2" name="Group 26"/>
            <p:cNvGrpSpPr/>
            <p:nvPr/>
          </p:nvGrpSpPr>
          <p:grpSpPr>
            <a:xfrm>
              <a:off x="646920" y="2637000"/>
              <a:ext cx="5909040" cy="459720"/>
              <a:chOff x="646920" y="2637000"/>
              <a:chExt cx="5909040" cy="459720"/>
            </a:xfrm>
          </p:grpSpPr>
          <p:sp>
            <p:nvSpPr>
              <p:cNvPr id="193" name="Text Box 27"/>
              <p:cNvSpPr/>
              <p:nvPr/>
            </p:nvSpPr>
            <p:spPr>
              <a:xfrm>
                <a:off x="646920" y="2697120"/>
                <a:ext cx="590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Battl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ar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Cold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od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Defens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Google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Yahoo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Text Box 28"/>
              <p:cNvSpPr/>
              <p:nvPr/>
            </p:nvSpPr>
            <p:spPr>
              <a:xfrm>
                <a:off x="778680" y="2637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5" name="Group 29"/>
          <p:cNvGrpSpPr/>
          <p:nvPr/>
        </p:nvGrpSpPr>
        <p:grpSpPr>
          <a:xfrm>
            <a:off x="754560" y="5013360"/>
            <a:ext cx="6573240" cy="479520"/>
            <a:chOff x="754560" y="5013360"/>
            <a:chExt cx="6573240" cy="479520"/>
          </a:xfrm>
        </p:grpSpPr>
        <p:sp>
          <p:nvSpPr>
            <p:cNvPr id="196" name="Rectangle 30"/>
            <p:cNvSpPr/>
            <p:nvPr/>
          </p:nvSpPr>
          <p:spPr>
            <a:xfrm>
              <a:off x="1135080" y="506124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7" name="Group 31"/>
            <p:cNvGrpSpPr/>
            <p:nvPr/>
          </p:nvGrpSpPr>
          <p:grpSpPr>
            <a:xfrm>
              <a:off x="754560" y="5013360"/>
              <a:ext cx="4217400" cy="459720"/>
              <a:chOff x="754560" y="5013360"/>
              <a:chExt cx="4217400" cy="459720"/>
            </a:xfrm>
          </p:grpSpPr>
          <p:sp>
            <p:nvSpPr>
              <p:cNvPr id="198" name="Text Box 32"/>
              <p:cNvSpPr/>
              <p:nvPr/>
            </p:nvSpPr>
            <p:spPr>
              <a:xfrm>
                <a:off x="858960" y="507384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9" name="Text Box 33"/>
              <p:cNvSpPr/>
              <p:nvPr/>
            </p:nvSpPr>
            <p:spPr>
              <a:xfrm>
                <a:off x="754560" y="5013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00" name="AutoShape 34"/>
          <p:cNvSpPr/>
          <p:nvPr/>
        </p:nvSpPr>
        <p:spPr>
          <a:xfrm>
            <a:off x="6732720" y="3862440"/>
            <a:ext cx="1944720" cy="649080"/>
          </a:xfrm>
          <a:prstGeom prst="wedgeRoundRectCallout">
            <a:avLst>
              <a:gd name="adj1" fmla="val -178490"/>
              <a:gd name="adj2" fmla="val 627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We coul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rop ms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611280" y="2565360"/>
            <a:ext cx="7632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684360" y="4437000"/>
            <a:ext cx="6984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AutoShape 37"/>
          <p:cNvSpPr/>
          <p:nvPr/>
        </p:nvSpPr>
        <p:spPr>
          <a:xfrm>
            <a:off x="3492360" y="6021360"/>
            <a:ext cx="5220000" cy="620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im at achieving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≈n log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28T14:58:42Z</dcterms:modified>
  <cp:revision>1191</cp:revision>
  <dc:subject/>
  <dc:title>Web Algorithmics</dc:title>
</cp:coreProperties>
</file>